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180638" cy="7315200"/>
  <p:notesSz cx="118332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147-5AF1-4EE2-B0B1-4B9D3172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712620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6760" y="5121720"/>
            <a:ext cx="712620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3331-C88D-4598-A446-0676B070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78240" y="414504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6760" y="512172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78240" y="512172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AF48-5B1C-4E71-B628-DBE74019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229428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36240" y="4145040"/>
            <a:ext cx="229428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5360" y="4145040"/>
            <a:ext cx="229428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6760" y="5121720"/>
            <a:ext cx="229428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36240" y="5121720"/>
            <a:ext cx="229428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5360" y="5121720"/>
            <a:ext cx="229428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EF46-3F55-412F-98B7-296777B7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2F27-20BA-41EF-92DD-4694A133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6760" y="4145040"/>
            <a:ext cx="7126200" cy="18698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FB15-7416-4800-B38B-5662289D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712620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BBF3-9A14-49DA-AA5D-CC07CACE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347724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78240" y="4145040"/>
            <a:ext cx="347724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BDB0-6B5D-431D-8536-6F705C84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3E4F-C586-4E08-BC1C-1D8D1AC0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3200" y="2112480"/>
            <a:ext cx="8653320" cy="79128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8F74-C1F7-4005-B9A4-1E4F79F0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78240" y="4145040"/>
            <a:ext cx="347724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6760" y="512172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F6D1-83B3-42D7-B6E6-E0F37BED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6760" y="4145040"/>
            <a:ext cx="7126200" cy="18698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F80D-6C7A-45F4-B42D-EEFEF240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347724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78240" y="414504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78240" y="512172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ED7B-5ECB-4E89-8961-EF192070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78240" y="414504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6760" y="5121720"/>
            <a:ext cx="712620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26B9-3B31-4A18-BC29-9DD625D5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712620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6760" y="5121720"/>
            <a:ext cx="712620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EC2F-9E86-4933-9D5A-DCA5DFA3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78240" y="414504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6760" y="512172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78240" y="512172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60AA-4C17-4974-B118-4B482F62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229428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36240" y="4145040"/>
            <a:ext cx="229428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45360" y="4145040"/>
            <a:ext cx="229428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6760" y="5121720"/>
            <a:ext cx="229428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36240" y="5121720"/>
            <a:ext cx="229428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45360" y="5121720"/>
            <a:ext cx="229428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3E95-BFB3-448A-8CB6-F14D786F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712620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E642-1C09-4FC3-B6EA-AE61B06C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347724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78240" y="4145040"/>
            <a:ext cx="347724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7B39-5A47-439F-9971-8369CDE5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8527-DA7E-4513-AB1E-D06A1EFC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0" y="2112480"/>
            <a:ext cx="8653320" cy="79128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5808-5C58-42F2-A508-C6F1EDEB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78240" y="4145040"/>
            <a:ext cx="347724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6760" y="512172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0899-15F1-4CFE-93CF-0440D52D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347724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8240" y="414504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78240" y="512172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418F-EAD2-44FB-BF67-92F04C62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6760" y="414504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8240" y="4145040"/>
            <a:ext cx="347724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6760" y="5121720"/>
            <a:ext cx="7126200" cy="8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03CE-9776-4531-9E7E-1739686D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6240" y="244080"/>
            <a:ext cx="9474120" cy="1413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600" y="1787400"/>
            <a:ext cx="9507600" cy="4718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74760" indent="-37476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12840"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1249200" indent="-24912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3" marL="1749600" indent="-249480"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4" marL="2249640" indent="-25092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5" marL="2249640" indent="-250920"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6" marL="2249640" indent="-250920"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39840" y="6660720"/>
            <a:ext cx="2544480" cy="50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8320" y="6660720"/>
            <a:ext cx="3224160" cy="50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95760" y="6660720"/>
            <a:ext cx="2544840" cy="50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fld id="{32454350-7895-489F-B3E3-6DC7A3275109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39840" y="6660720"/>
            <a:ext cx="2544480" cy="50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78320" y="6660720"/>
            <a:ext cx="3224160" cy="50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95760" y="6660720"/>
            <a:ext cx="2544840" cy="50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fld id="{F8F9970B-5813-41AB-AADE-639DC956D153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09040" y="1711440"/>
            <a:ext cx="91623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500040" indent="0" algn="ctr">
              <a:spcBef>
                <a:spcPts val="77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000080" algn="ctr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00120" algn="ctr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998720" algn="ctr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99872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99872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8080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857680" y="2001960"/>
            <a:ext cx="403200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L  AGUA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0" y="2112480"/>
            <a:ext cx="8653320" cy="1706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526760" y="4145040"/>
            <a:ext cx="7126200" cy="18698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80800" cy="7315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994040" y="1928880"/>
            <a:ext cx="583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sentado por: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034040" y="4089240"/>
            <a:ext cx="1729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102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26040" y="4881600"/>
            <a:ext cx="2305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RACIAS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849320" y="3009960"/>
            <a:ext cx="650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VICKY SANDOVAL OYOLA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8080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36600" y="1787400"/>
            <a:ext cx="9507600" cy="4718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74760" indent="-37476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ARACTERISTICAS DEL AGU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NALISIS DE LAS AGUAS DEL MUNICIPIO DE CAJICA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AHORRO Y USO DEL AGU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FORMAS DE POTABILIZACION DEL AGU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RATAMIENTO DE AGUAS RESIDUALE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80800" cy="7315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36600" y="1065240"/>
            <a:ext cx="9507600" cy="54403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74760" indent="0" algn="just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Nuestro medio ambiente y nuestra vida, depende de un recurso muy conocido, el 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AGUA.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El Agua es una sustancia química que tiene propiedades muy peculiares, una de ellas es su gran poder de disolver, se le ha llamado " El solvente Universal ", es por ello que casi nunca encontramos una agua "Pura".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8080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36600" y="417240"/>
            <a:ext cx="9507600" cy="608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 fontScale="96000"/>
          </a:bodyPr>
          <a:p>
            <a:pPr marL="359640" indent="-3596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lasificación del agua según su origen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    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-2390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ua superficia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-2390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ua de río.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-2390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ua de pozo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-2390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ua de lagos y laguna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-2390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ua de mar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-2390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ua de lluvi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-2390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ua destilad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-2390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gua purificad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99160" indent="0">
              <a:spcBef>
                <a:spcPts val="901"/>
              </a:spcBef>
              <a:buNone/>
              <a:tabLst>
                <a:tab algn="l" pos="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9640" indent="0">
              <a:spcBef>
                <a:spcPts val="90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80800" cy="7315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38040" y="633240"/>
            <a:ext cx="9507600" cy="6048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 fontScale="98000"/>
          </a:bodyPr>
          <a:p>
            <a:pPr marL="367200" indent="-36720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agua se clasifica también según el uso que se le vaya a dar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gua de uso doméstic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gua para limpieza y lavad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gua para uso industria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gua para análisis químico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gua para aplicaciones biológicas (libre de pirógeno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85520" y="7064280"/>
            <a:ext cx="395280" cy="250920"/>
          </a:xfrm>
          <a:custGeom>
            <a:avLst/>
            <a:gdLst>
              <a:gd name="textAreaLeft" fmla="*/ 16200 w 395280"/>
              <a:gd name="textAreaRight" fmla="*/ 379080 w 3952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34009" h="21600">
                <a:moveTo>
                  <a:pt x="0" y="0"/>
                </a:moveTo>
                <a:lnTo>
                  <a:pt x="34009" y="0"/>
                </a:lnTo>
                <a:lnTo>
                  <a:pt x="34009" y="21600"/>
                </a:lnTo>
                <a:lnTo>
                  <a:pt x="0" y="21600"/>
                </a:lnTo>
                <a:close/>
              </a:path>
              <a:path fill="lightenLess" w="34009" h="21600">
                <a:moveTo>
                  <a:pt x="0" y="0"/>
                </a:moveTo>
                <a:lnTo>
                  <a:pt x="34009" y="0"/>
                </a:lnTo>
                <a:lnTo>
                  <a:pt x="32609" y="1400"/>
                </a:lnTo>
                <a:lnTo>
                  <a:pt x="1400" y="1400"/>
                </a:lnTo>
                <a:close/>
              </a:path>
              <a:path fill="darken" w="34009" h="21600">
                <a:moveTo>
                  <a:pt x="34009" y="0"/>
                </a:moveTo>
                <a:lnTo>
                  <a:pt x="34009" y="21600"/>
                </a:lnTo>
                <a:lnTo>
                  <a:pt x="32609" y="20200"/>
                </a:lnTo>
                <a:lnTo>
                  <a:pt x="32609" y="1400"/>
                </a:lnTo>
                <a:close/>
              </a:path>
              <a:path fill="darkenLess" w="34009" h="21600">
                <a:moveTo>
                  <a:pt x="34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09" y="20200"/>
                </a:lnTo>
                <a:close/>
              </a:path>
              <a:path fill="lighten" w="34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09" h="21600">
                <a:moveTo>
                  <a:pt x="13506" y="10800"/>
                </a:moveTo>
                <a:lnTo>
                  <a:pt x="24011" y="3794"/>
                </a:lnTo>
                <a:lnTo>
                  <a:pt x="24011" y="17806"/>
                </a:lnTo>
                <a:close/>
              </a:path>
              <a:path fill="darken" w="34009" h="21600">
                <a:moveTo>
                  <a:pt x="9998" y="3794"/>
                </a:moveTo>
                <a:lnTo>
                  <a:pt x="11661" y="3794"/>
                </a:lnTo>
                <a:lnTo>
                  <a:pt x="11661" y="17806"/>
                </a:lnTo>
                <a:lnTo>
                  <a:pt x="999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80800" cy="7315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6240" y="244080"/>
            <a:ext cx="9474120" cy="1413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CO" sz="4400" spc="-1" strike="noStrike">
                <a:solidFill>
                  <a:srgbClr val="b7e7ff"/>
                </a:solidFill>
                <a:latin typeface="Arial"/>
              </a:rPr>
              <a:t>Análisis de las aguas del municipio de Cajicá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6600" y="1787400"/>
            <a:ext cx="9507600" cy="4718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74760" indent="-37476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CO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O" sz="4000" spc="-1" strike="noStrike">
                <a:solidFill>
                  <a:srgbClr val="ffffff"/>
                </a:solidFill>
                <a:latin typeface="Arial"/>
              </a:rPr>
              <a:t>En el sector rincón santo se encuentran dos vertimientos de aguas negr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CO" sz="4000" spc="-1" strike="noStrike">
                <a:solidFill>
                  <a:srgbClr val="ffffff"/>
                </a:solidFill>
                <a:latin typeface="Arial"/>
              </a:rPr>
              <a:t>El río frío recibe los vertimientos principalmente de la empresa Alquerí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CO" sz="4000" spc="-1" strike="noStrike">
                <a:solidFill>
                  <a:srgbClr val="ffffff"/>
                </a:solidFill>
                <a:latin typeface="Arial"/>
              </a:rPr>
              <a:t>El río frío es utilizado para lavar los alimentos que van para el consumo human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71120" y="6848640"/>
            <a:ext cx="409680" cy="466560"/>
          </a:xfrm>
          <a:custGeom>
            <a:avLst/>
            <a:gdLst>
              <a:gd name="textAreaLeft" fmla="*/ 26280 w 409680"/>
              <a:gd name="textAreaRight" fmla="*/ 383400 w 409680"/>
              <a:gd name="textAreaTop" fmla="*/ 26280 h 466560"/>
              <a:gd name="textAreaBottom" fmla="*/ 440280 h 466560"/>
            </a:gdLst>
            <a:ahLst/>
            <a:rect l="textAreaLeft" t="textAreaTop" r="textAreaRight" b="textAreaBottom"/>
            <a:pathLst>
              <a:path w="21600" h="24596">
                <a:moveTo>
                  <a:pt x="0" y="0"/>
                </a:moveTo>
                <a:lnTo>
                  <a:pt x="21600" y="0"/>
                </a:lnTo>
                <a:lnTo>
                  <a:pt x="21600" y="24596"/>
                </a:lnTo>
                <a:lnTo>
                  <a:pt x="0" y="24596"/>
                </a:lnTo>
                <a:close/>
              </a:path>
              <a:path fill="lightenLess" w="21600" h="245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96">
                <a:moveTo>
                  <a:pt x="21600" y="0"/>
                </a:moveTo>
                <a:lnTo>
                  <a:pt x="21600" y="24596"/>
                </a:lnTo>
                <a:lnTo>
                  <a:pt x="20200" y="23196"/>
                </a:lnTo>
                <a:lnTo>
                  <a:pt x="20200" y="1400"/>
                </a:lnTo>
                <a:close/>
              </a:path>
              <a:path fill="darkenLess" w="21600" h="24596">
                <a:moveTo>
                  <a:pt x="21600" y="24596"/>
                </a:moveTo>
                <a:lnTo>
                  <a:pt x="0" y="24596"/>
                </a:lnTo>
                <a:lnTo>
                  <a:pt x="1400" y="23196"/>
                </a:lnTo>
                <a:lnTo>
                  <a:pt x="20200" y="23196"/>
                </a:lnTo>
                <a:close/>
              </a:path>
              <a:path fill="lighten" w="21600" h="24596">
                <a:moveTo>
                  <a:pt x="0" y="245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96"/>
                </a:lnTo>
                <a:close/>
              </a:path>
              <a:path fill="darken" w="21600" h="24596">
                <a:moveTo>
                  <a:pt x="7301" y="12298"/>
                </a:moveTo>
                <a:lnTo>
                  <a:pt x="17806" y="5292"/>
                </a:lnTo>
                <a:lnTo>
                  <a:pt x="17806" y="19305"/>
                </a:lnTo>
                <a:close/>
              </a:path>
              <a:path fill="darken" w="21600" h="24596">
                <a:moveTo>
                  <a:pt x="3794" y="5292"/>
                </a:moveTo>
                <a:lnTo>
                  <a:pt x="5456" y="5292"/>
                </a:lnTo>
                <a:lnTo>
                  <a:pt x="5456" y="19305"/>
                </a:lnTo>
                <a:lnTo>
                  <a:pt x="3794" y="19305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8080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6240" y="244080"/>
            <a:ext cx="9474120" cy="1413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HORRO Y USO EFICIENTE DEL AGU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6600" y="1787400"/>
            <a:ext cx="9507600" cy="4718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74760" indent="-37476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ciclar agua del proces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jorar el mantenimiento para reemplazar equipos y partes variada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ducir los tiempos de riego de jardin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paración de fuga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stalación de boquillas de aspersió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stalar y/o reemplazar boquillas de cierre automátic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tilización de aguas lluvia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915480" y="7042320"/>
            <a:ext cx="265320" cy="272880"/>
          </a:xfrm>
          <a:custGeom>
            <a:avLst/>
            <a:gdLst>
              <a:gd name="textAreaLeft" fmla="*/ 16920 w 265320"/>
              <a:gd name="textAreaRight" fmla="*/ 248400 w 265320"/>
              <a:gd name="textAreaTop" fmla="*/ 16920 h 272880"/>
              <a:gd name="textAreaBottom" fmla="*/ 255960 h 272880"/>
            </a:gdLst>
            <a:ahLst/>
            <a:rect l="textAreaLeft" t="textAreaTop" r="textAreaRight" b="textAreaBottom"/>
            <a:pathLst>
              <a:path w="21600" h="22215">
                <a:moveTo>
                  <a:pt x="0" y="0"/>
                </a:moveTo>
                <a:lnTo>
                  <a:pt x="21600" y="0"/>
                </a:lnTo>
                <a:lnTo>
                  <a:pt x="21600" y="22215"/>
                </a:lnTo>
                <a:lnTo>
                  <a:pt x="0" y="22215"/>
                </a:lnTo>
                <a:close/>
              </a:path>
              <a:path fill="lightenLess" w="21600" h="222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15">
                <a:moveTo>
                  <a:pt x="21600" y="0"/>
                </a:moveTo>
                <a:lnTo>
                  <a:pt x="21600" y="22215"/>
                </a:lnTo>
                <a:lnTo>
                  <a:pt x="20200" y="20815"/>
                </a:lnTo>
                <a:lnTo>
                  <a:pt x="20200" y="1400"/>
                </a:lnTo>
                <a:close/>
              </a:path>
              <a:path fill="darkenLess" w="21600" h="22215">
                <a:moveTo>
                  <a:pt x="21600" y="22215"/>
                </a:moveTo>
                <a:lnTo>
                  <a:pt x="0" y="22215"/>
                </a:lnTo>
                <a:lnTo>
                  <a:pt x="1400" y="20815"/>
                </a:lnTo>
                <a:lnTo>
                  <a:pt x="20200" y="20815"/>
                </a:lnTo>
                <a:close/>
              </a:path>
              <a:path fill="lighten" w="21600" h="22215">
                <a:moveTo>
                  <a:pt x="0" y="222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15"/>
                </a:lnTo>
                <a:close/>
              </a:path>
              <a:path fill="darken" w="21600" h="22215">
                <a:moveTo>
                  <a:pt x="7301" y="11107"/>
                </a:moveTo>
                <a:lnTo>
                  <a:pt x="17806" y="4101"/>
                </a:lnTo>
                <a:lnTo>
                  <a:pt x="17806" y="18114"/>
                </a:lnTo>
                <a:close/>
              </a:path>
              <a:path fill="darken" w="21600" h="22215">
                <a:moveTo>
                  <a:pt x="3794" y="4101"/>
                </a:moveTo>
                <a:lnTo>
                  <a:pt x="5456" y="4101"/>
                </a:lnTo>
                <a:lnTo>
                  <a:pt x="5456" y="18114"/>
                </a:lnTo>
                <a:lnTo>
                  <a:pt x="3794" y="18114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80800" cy="73152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6240" y="244080"/>
            <a:ext cx="9474120" cy="1413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XPERIMENTO DE DESTILACION DEL AGU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09680" y="1641600"/>
            <a:ext cx="9507600" cy="540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00080" rIns="100080" tIns="50040" bIns="50040" anchor="t">
            <a:normAutofit/>
          </a:bodyPr>
          <a:p>
            <a:pPr marL="374760" indent="-3747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 ES DESTILACION?: proceso de separación de mezclas, teniendo en cuenta las sustancias y sus diferentes puntos de ebulli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BON ACTIVADO: es un carbón que se calienta a muy altas temperaturas en ausencia de oxigeno por lo cual se abren unas porosidades las cuales son las que finalmente nos sirven de microfilt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8080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38040" y="2001960"/>
            <a:ext cx="9507600" cy="4968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74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Las tres fases del tratamiento son la primaria, la secundaria y la terciaria. En la primaria, se elimina un gran porcentaje de sólidos en suspensión y materia inorgánica. En la secundaria se trata de reducir el contenido en materia orgánica acelerando los procesos biológicos naturales. La terciaria es necesaria cuando el agua va a ser reutilizada; elimina un 99% de los sólidos y además se emplean varios procesos químicos para garantizar que el agua esté tan libre de impurezas como sea posib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336240" y="244080"/>
            <a:ext cx="9474120" cy="1413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RATAMIENTO DE AGUAS RESIDUA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820440" y="6954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17:04:56Z</dcterms:created>
  <dc:creator>cjjc</dc:creator>
  <dc:description/>
  <dc:language>en-US</dc:language>
  <cp:lastModifiedBy>USUARIO</cp:lastModifiedBy>
  <dcterms:modified xsi:type="dcterms:W3CDTF">2006-06-01T13:14:36Z</dcterms:modified>
  <cp:revision>63</cp:revision>
  <dc:subject/>
  <dc:title>Diapositiva 1</dc:title>
</cp:coreProperties>
</file>